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1.png" ContentType="image/png"/>
  <Override PartName="/ppt/media/image48.jpeg" ContentType="image/jpeg"/>
  <Override PartName="/ppt/media/image35.wmf" ContentType="image/x-wmf"/>
  <Override PartName="/ppt/media/image46.jpeg" ContentType="image/jpeg"/>
  <Override PartName="/ppt/media/image45.jpeg" ContentType="image/jpeg"/>
  <Override PartName="/ppt/media/image44.jpeg" ContentType="image/jpeg"/>
  <Override PartName="/ppt/media/image2.jpeg" ContentType="image/jpeg"/>
  <Override PartName="/ppt/media/image5.png" ContentType="image/png"/>
  <Override PartName="/ppt/media/image54.wmf" ContentType="image/x-wmf"/>
  <Override PartName="/ppt/media/image14.png" ContentType="image/png"/>
  <Override PartName="/ppt/media/image10.jpeg" ContentType="image/jpeg"/>
  <Override PartName="/ppt/media/image17.wmf" ContentType="image/x-wmf"/>
  <Override PartName="/ppt/media/image56.png" ContentType="image/png"/>
  <Override PartName="/ppt/media/image47.jpeg" ContentType="image/jpeg"/>
  <Override PartName="/ppt/media/image18.wmf" ContentType="image/x-wmf"/>
  <Override PartName="/ppt/media/image6.wmf" ContentType="image/x-wmf"/>
  <Override PartName="/ppt/media/laser.wav" ContentType="audio/x-wav"/>
  <Override PartName="/ppt/media/image25.png" ContentType="image/png"/>
  <Override PartName="/ppt/media/image29.png" ContentType="image/png"/>
  <Override PartName="/ppt/media/image32.wmf" ContentType="image/x-wmf"/>
  <Override PartName="/ppt/media/image21.jpeg" ContentType="image/jpeg"/>
  <Override PartName="/ppt/media/image4.png" ContentType="image/png"/>
  <Override PartName="/ppt/media/image16.png" ContentType="image/png"/>
  <Override PartName="/ppt/media/image49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58.jpeg" ContentType="image/jpeg"/>
  <Override PartName="/ppt/media/image57.jpeg" ContentType="image/jpeg"/>
  <Override PartName="/ppt/media/image42.jpeg" ContentType="image/jpeg"/>
  <Override PartName="/ppt/media/image59.jpeg" ContentType="image/jpeg"/>
  <Override PartName="/ppt/media/camera.wav" ContentType="audio/x-wav"/>
  <Override PartName="/ppt/media/image22.png" ContentType="image/png"/>
  <Override PartName="/ppt/media/image11.wmf" ContentType="image/x-wmf"/>
  <Override PartName="/ppt/media/image50.png" ContentType="image/png"/>
  <Override PartName="/ppt/media/image3.png" ContentType="image/png"/>
  <Override PartName="/ppt/media/image15.png" ContentType="image/png"/>
  <Override PartName="/ppt/media/image55.png" ContentType="image/png"/>
  <Override PartName="/ppt/media/image20.jpeg" ContentType="image/jpeg"/>
  <Override PartName="/ppt/media/image12.png" ContentType="image/png"/>
  <Override PartName="/ppt/media/image24.jpeg" ContentType="image/jpeg"/>
  <Override PartName="/ppt/media/image52.wmf" ContentType="image/x-wmf"/>
  <Override PartName="/ppt/media/image19.wmf" ContentType="image/x-wmf"/>
  <Override PartName="/ppt/media/image7.wmf" ContentType="image/x-wmf"/>
  <Override PartName="/ppt/media/image53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carbrake.wav" ContentType="audio/x-wav"/>
  <Override PartName="/ppt/media/type.wav" ContentType="audio/x-wav"/>
  <Override PartName="/ppt/media/image9.wmf" ContentType="image/x-wmf"/>
  <Override PartName="/ppt/media/image39.wmf" ContentType="image/x-wmf"/>
  <Override PartName="/ppt/media/image26.png" ContentType="image/png"/>
  <Override PartName="/ppt/media/image27.png" ContentType="image/png"/>
  <Override PartName="/ppt/media/image33.jpeg" ContentType="image/jpeg"/>
  <Override PartName="/ppt/media/image43.jpeg" ContentType="image/jpeg"/>
  <Override PartName="/ppt/media/image28.png" ContentType="image/png"/>
  <Override PartName="/ppt/media/image31.wmf" ContentType="image/x-wmf"/>
  <Override PartName="/ppt/media/image34.wmf" ContentType="image/x-wmf"/>
  <Override PartName="/ppt/media/image36.png" ContentType="image/png"/>
  <Override PartName="/ppt/media/image23.wmf" ContentType="image/x-wmf"/>
  <Override PartName="/ppt/media/image41.jpeg" ContentType="image/jpeg"/>
  <Override PartName="/ppt/media/image13.png" ContentType="image/png"/>
  <Override PartName="/ppt/media/image1.png" ContentType="image/png"/>
  <Override PartName="/ppt/media/ricoche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82C0-3AAC-4216-A48F-6A77D702762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5C68-635E-4212-B150-D7F444593F1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115C-D574-4399-BC5E-6BF3EDE2704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810D-F9B6-4467-8386-160925A9FC0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8824-7582-440A-BB54-0AF2306EAB9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5DC-A21B-40B1-8E4E-B270E882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990-0E97-4230-BB5A-0B73AD6D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9B2-C38B-4C95-AE84-1BDA68F5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417-3FDD-46AA-8AF3-D3F825F4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7BE9-393B-4673-94D5-643C1337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28BE-8583-4EF7-B402-97662FE2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B0FF-6C6C-484A-B1C7-671AAEC8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A994-12CB-4430-BF31-C23AA0F0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8B65-3169-49AC-8D5C-7DED9973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B7EB-BE37-4119-84A8-D0CF0501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E143-ADB8-4695-864A-E2C61CD3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435-0A51-445B-9FB9-F2488866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9619-2988-4A40-AC31-5B013F85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B5AC-C4F6-46AB-838F-FD187C7E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1FAE-EC82-4EFC-B66B-10C69408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BCA2-A7F7-4362-9C86-0C049FAE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5DF7-F90F-4689-B286-7C0BB945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9F4-DF0B-4604-8D44-4D950832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C29-5530-43C5-9F28-599291C8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146-BE04-4693-A307-CEA74A5D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3D4-A34A-4E31-B08F-9BF933C9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8A6-6FD0-4A6E-839C-AA59F0A4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F84-38FB-4FF9-A1C1-5AE94D99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BDCA-EED0-462C-99A2-D0FB15CC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2329-8C25-48E1-8696-D0CFB4D3D0B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3DE8-30A7-4A60-9F32-3D1141CAA89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42920" y="1341360"/>
            <a:ext cx="7107480" cy="180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Bookman Old Style"/>
              </a:rPr>
              <a:t>...ach ten procent </a:t>
            </a:r>
            <a:endParaRPr b="0" lang="en-US" sz="96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299736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9600" spc="-1" strike="noStrike">
                <a:solidFill>
                  <a:srgbClr val="009999"/>
                </a:solidFill>
                <a:latin typeface="Times New Roman"/>
              </a:rPr>
              <a:t>%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45802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i="1" lang="pl-PL" sz="3200" spc="-1" strike="noStrike">
                <a:solidFill>
                  <a:srgbClr val="221304"/>
                </a:solidFill>
                <a:latin typeface="Times New Roman"/>
              </a:rPr>
              <a:t>Opracowała: mgr Emilia Pawłow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73E1-C1F3-4B9E-8D15-314CAE355F87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Zamiana ułamków na procent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Times New Roman"/>
              </a:rPr>
              <a:t>Niektóre ułamki w postaci zwykłej można rozszerzyć do mianownika 100 i potem zamienić na proc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295280" y="2895480"/>
                <a:ext cx="26672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2895480"/>
                <a:ext cx="2590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D19-1B41-4DB7-8FE7-1D1916E3D7FC}" type="slidenum">
              <a:t>10</a:t>
            </a:fld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00720" y="3933720"/>
            <a:ext cx="1566720" cy="153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187280" y="155736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                               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Monotype Corsiva"/>
              </a:rPr>
              <a:t>Czy każdy ułamek w postaci zwykłej da się rozszerzyć do mianownika 100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8B9-4E26-42C8-B936-2E0219C33112}" type="slidenum">
              <a:t>11</a:t>
            </a:fld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Oczywiście nie każdy ułamek zwykły da się rozszerzyć do mianownika 100. Wówczas należy zastosować sposób drugi.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692280"/>
            <a:ext cx="2468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posób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2664000" cy="26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587-B73C-4EB7-8985-42BC32550A7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40360" y="4292640"/>
                <a:ext cx="407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140360" y="90792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Monotype Corsiva"/>
              </a:rPr>
              <a:t>Aby liczbę zamienić na procent, należ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Monotype Corsiva"/>
              </a:rPr>
              <a:t>tę liczbę pomnożyć przez 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Monotype Corsiva"/>
              </a:rPr>
              <a:t>i dopisać symbol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03280" y="3860640"/>
            <a:ext cx="54594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1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Zamień liczbę         na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116000" y="5373720"/>
                <a:ext cx="7056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70B-5B6F-4C92-80F1-4937B6AA72F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zykła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1798560"/>
            <a:ext cx="69120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650C-B5D7-4F1D-B9E2-1A7DFF3776B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miana procentu na ułamek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ocenty zamieniamy na ułamki zwykłe pisząc w liczniku liczbę procentów, a w mianowniku 1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óźniej oczywiście można taki ułamek skrócić, lub zamienić na ułamek miesz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3889440" cy="29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D7E-2443-4D7C-A291-C8C164C8FF7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21164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procent zamienić na liczbę, należy liczbę wyrażającą procent podzielić przez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49440" y="3716280"/>
            <a:ext cx="4708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2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pisz w postaci ułamka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19280" y="5084640"/>
                <a:ext cx="5184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ACB-53E3-4E23-9FAD-3AE77A073D2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zamienić procenty na ułamek dziesiętny, wystarczy przesunąć przecinek o dwa miejsca w lewo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47344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0C4-F9E4-4F0A-88B9-CC1D737093F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4" name="" descr="Procenty."/>
          <p:cNvPicPr/>
          <p:nvPr/>
        </p:nvPicPr>
        <p:blipFill>
          <a:blip r:embed="rId1"/>
          <a:stretch/>
        </p:blipFill>
        <p:spPr>
          <a:xfrm>
            <a:off x="1042920" y="2060640"/>
            <a:ext cx="7620120" cy="679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08120" y="2772720"/>
            <a:ext cx="592632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procenty na ułamk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Procenty."/>
          <p:cNvPicPr/>
          <p:nvPr/>
        </p:nvPicPr>
        <p:blipFill>
          <a:blip r:embed="rId2"/>
          <a:stretch/>
        </p:blipFill>
        <p:spPr>
          <a:xfrm>
            <a:off x="971640" y="4653000"/>
            <a:ext cx="7632720" cy="576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187280" y="476280"/>
            <a:ext cx="71280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ułamki na procent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66C-7A4A-4A54-870A-C093F385714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676520"/>
            <a:ext cx="77724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Diagram to po grecku znaczy wykres. Na diagramie można pokazać nie tylko podział na części  i udział tych części w całości. Diagramem wygodnie jest, również zilustrować rozkład wyników przeprowadzonego doświadczenia, wyników ankiety, porównać częstość występowania pewnego zdarzenia w różnych środowisk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y diagram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prostokąt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4952880"/>
            <a:ext cx="1066680" cy="12193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4952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541008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541008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4952880"/>
            <a:ext cx="129528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562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548640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5334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4292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ko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4876920"/>
            <a:ext cx="457200" cy="12189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5257800"/>
            <a:ext cx="457200" cy="838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5562720"/>
            <a:ext cx="53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54864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42926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słup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2543-0CB1-4957-BA15-84AA2201553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Spis treśc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Pojęcie procentu. Zamiana procentu na ułam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     </a:t>
            </a: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i odwrot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Odczytywanie diagramów procent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Obliczanie procentu danej liczby i liczby, gdy dany jest jej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Obliczanie, jakim procentem jednej liczby jest druga licz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80"/>
                </a:solidFill>
                <a:latin typeface="Monotype Corsiva"/>
              </a:rPr>
              <a:t>Wykorzystanie kalkulatora do obliczeń procent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F5F-0CE9-417D-8130-92012497B70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99"/>
                </a:solidFill>
                <a:latin typeface="Times New Roman"/>
              </a:rPr>
              <a:t>W sadzie o powierzchni 1 ha rośnie 3000 drzew w tym 40% jabłoni, 25% grusz, 15% śliw, 10% wiśni i 10% czereśni. Informacje te można przedstawić za pomocą różnego rodzaju diagramów procentowych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19280" y="1989000"/>
            <a:ext cx="3139920" cy="1923840"/>
            <a:chOff x="1619280" y="1989000"/>
            <a:chExt cx="3139920" cy="1923840"/>
          </a:xfrm>
        </p:grpSpPr>
        <p:grpSp>
          <p:nvGrpSpPr>
            <p:cNvPr id="208" name=""/>
            <p:cNvGrpSpPr/>
            <p:nvPr/>
          </p:nvGrpSpPr>
          <p:grpSpPr>
            <a:xfrm>
              <a:off x="1619280" y="2050200"/>
              <a:ext cx="867960" cy="168120"/>
              <a:chOff x="1619280" y="2050200"/>
              <a:chExt cx="867960" cy="168120"/>
            </a:xfrm>
          </p:grpSpPr>
          <p:sp>
            <p:nvSpPr>
              <p:cNvPr id="209" name=""/>
              <p:cNvSpPr/>
              <p:nvPr/>
            </p:nvSpPr>
            <p:spPr>
              <a:xfrm>
                <a:off x="161928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949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72440" y="2050200"/>
                <a:ext cx="1616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14524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2272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2498760" y="2050200"/>
              <a:ext cx="867960" cy="168120"/>
              <a:chOff x="2498760" y="2050200"/>
              <a:chExt cx="867960" cy="168120"/>
            </a:xfrm>
          </p:grpSpPr>
          <p:sp>
            <p:nvSpPr>
              <p:cNvPr id="215" name=""/>
              <p:cNvSpPr/>
              <p:nvPr/>
            </p:nvSpPr>
            <p:spPr>
              <a:xfrm>
                <a:off x="249876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733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5084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025800" y="2050200"/>
                <a:ext cx="16488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20220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619280" y="2230560"/>
              <a:ext cx="867960" cy="168480"/>
              <a:chOff x="1619280" y="2230560"/>
              <a:chExt cx="867960" cy="168480"/>
            </a:xfrm>
          </p:grpSpPr>
          <p:sp>
            <p:nvSpPr>
              <p:cNvPr id="221" name=""/>
              <p:cNvSpPr/>
              <p:nvPr/>
            </p:nvSpPr>
            <p:spPr>
              <a:xfrm>
                <a:off x="161928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949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72440" y="2230560"/>
                <a:ext cx="1616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14524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2272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498760" y="2230560"/>
              <a:ext cx="867960" cy="168480"/>
              <a:chOff x="2498760" y="2230560"/>
              <a:chExt cx="867960" cy="168480"/>
            </a:xfrm>
          </p:grpSpPr>
          <p:sp>
            <p:nvSpPr>
              <p:cNvPr id="227" name=""/>
              <p:cNvSpPr/>
              <p:nvPr/>
            </p:nvSpPr>
            <p:spPr>
              <a:xfrm>
                <a:off x="249876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6733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5084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025800" y="2230560"/>
                <a:ext cx="16488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0220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1619280" y="2411640"/>
              <a:ext cx="867960" cy="166680"/>
              <a:chOff x="1619280" y="2411640"/>
              <a:chExt cx="867960" cy="166680"/>
            </a:xfrm>
          </p:grpSpPr>
          <p:sp>
            <p:nvSpPr>
              <p:cNvPr id="233" name=""/>
              <p:cNvSpPr/>
              <p:nvPr/>
            </p:nvSpPr>
            <p:spPr>
              <a:xfrm>
                <a:off x="161928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7949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72440" y="2411640"/>
                <a:ext cx="1616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14524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2272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498760" y="2411640"/>
              <a:ext cx="867960" cy="166680"/>
              <a:chOff x="2498760" y="2411640"/>
              <a:chExt cx="867960" cy="166680"/>
            </a:xfrm>
          </p:grpSpPr>
          <p:sp>
            <p:nvSpPr>
              <p:cNvPr id="239" name=""/>
              <p:cNvSpPr/>
              <p:nvPr/>
            </p:nvSpPr>
            <p:spPr>
              <a:xfrm>
                <a:off x="249876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733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5084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25800" y="2411640"/>
                <a:ext cx="16488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0220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619280" y="2590920"/>
              <a:ext cx="867960" cy="165960"/>
              <a:chOff x="1619280" y="2590920"/>
              <a:chExt cx="867960" cy="165960"/>
            </a:xfrm>
          </p:grpSpPr>
          <p:sp>
            <p:nvSpPr>
              <p:cNvPr id="245" name=""/>
              <p:cNvSpPr/>
              <p:nvPr/>
            </p:nvSpPr>
            <p:spPr>
              <a:xfrm>
                <a:off x="161928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949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72440" y="2590920"/>
                <a:ext cx="1616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14524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2272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498760" y="2590920"/>
              <a:ext cx="867960" cy="165960"/>
              <a:chOff x="2498760" y="2590920"/>
              <a:chExt cx="867960" cy="165960"/>
            </a:xfrm>
          </p:grpSpPr>
          <p:sp>
            <p:nvSpPr>
              <p:cNvPr id="251" name=""/>
              <p:cNvSpPr/>
              <p:nvPr/>
            </p:nvSpPr>
            <p:spPr>
              <a:xfrm>
                <a:off x="249876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733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5084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025800" y="2590920"/>
                <a:ext cx="16488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0220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619280" y="2950920"/>
              <a:ext cx="867960" cy="165600"/>
              <a:chOff x="1619280" y="2950920"/>
              <a:chExt cx="867960" cy="165600"/>
            </a:xfrm>
          </p:grpSpPr>
          <p:sp>
            <p:nvSpPr>
              <p:cNvPr id="257" name=""/>
              <p:cNvSpPr/>
              <p:nvPr/>
            </p:nvSpPr>
            <p:spPr>
              <a:xfrm>
                <a:off x="161928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949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72440" y="2950920"/>
                <a:ext cx="1616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4524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2272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498760" y="2770200"/>
              <a:ext cx="867960" cy="167040"/>
              <a:chOff x="2498760" y="2770200"/>
              <a:chExt cx="867960" cy="167040"/>
            </a:xfrm>
          </p:grpSpPr>
          <p:sp>
            <p:nvSpPr>
              <p:cNvPr id="263" name=""/>
              <p:cNvSpPr/>
              <p:nvPr/>
            </p:nvSpPr>
            <p:spPr>
              <a:xfrm>
                <a:off x="249876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6733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5084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25800" y="2770200"/>
                <a:ext cx="16488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0220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619280" y="2770200"/>
              <a:ext cx="867960" cy="167040"/>
              <a:chOff x="1619280" y="2770200"/>
              <a:chExt cx="867960" cy="167040"/>
            </a:xfrm>
          </p:grpSpPr>
          <p:sp>
            <p:nvSpPr>
              <p:cNvPr id="269" name=""/>
              <p:cNvSpPr/>
              <p:nvPr/>
            </p:nvSpPr>
            <p:spPr>
              <a:xfrm>
                <a:off x="161928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7949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72440" y="277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4524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2272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619280" y="3130200"/>
              <a:ext cx="867960" cy="167040"/>
              <a:chOff x="1619280" y="3130200"/>
              <a:chExt cx="867960" cy="167040"/>
            </a:xfrm>
          </p:grpSpPr>
          <p:sp>
            <p:nvSpPr>
              <p:cNvPr id="275" name=""/>
              <p:cNvSpPr/>
              <p:nvPr/>
            </p:nvSpPr>
            <p:spPr>
              <a:xfrm>
                <a:off x="161928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9496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72440" y="313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4524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2272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498760" y="2950920"/>
              <a:ext cx="867960" cy="165600"/>
              <a:chOff x="2498760" y="2950920"/>
              <a:chExt cx="867960" cy="165600"/>
            </a:xfrm>
          </p:grpSpPr>
          <p:sp>
            <p:nvSpPr>
              <p:cNvPr id="281" name=""/>
              <p:cNvSpPr/>
              <p:nvPr/>
            </p:nvSpPr>
            <p:spPr>
              <a:xfrm>
                <a:off x="249876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733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85084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25800" y="2950920"/>
                <a:ext cx="16488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0220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498760" y="3130200"/>
              <a:ext cx="867960" cy="167040"/>
              <a:chOff x="2498760" y="3130200"/>
              <a:chExt cx="867960" cy="167040"/>
            </a:xfrm>
          </p:grpSpPr>
          <p:sp>
            <p:nvSpPr>
              <p:cNvPr id="287" name=""/>
              <p:cNvSpPr/>
              <p:nvPr/>
            </p:nvSpPr>
            <p:spPr>
              <a:xfrm>
                <a:off x="249876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73360" y="3130200"/>
                <a:ext cx="16596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5084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25800" y="3130200"/>
                <a:ext cx="16488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02200" y="3130200"/>
                <a:ext cx="16452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619280" y="3310920"/>
              <a:ext cx="867960" cy="165600"/>
              <a:chOff x="1619280" y="3310920"/>
              <a:chExt cx="867960" cy="165600"/>
            </a:xfrm>
          </p:grpSpPr>
          <p:sp>
            <p:nvSpPr>
              <p:cNvPr id="293" name=""/>
              <p:cNvSpPr/>
              <p:nvPr/>
            </p:nvSpPr>
            <p:spPr>
              <a:xfrm>
                <a:off x="161928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949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2440" y="3310920"/>
                <a:ext cx="1616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4524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32272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498760" y="3310920"/>
              <a:ext cx="867960" cy="165600"/>
              <a:chOff x="2498760" y="3310920"/>
              <a:chExt cx="867960" cy="165600"/>
            </a:xfrm>
          </p:grpSpPr>
          <p:sp>
            <p:nvSpPr>
              <p:cNvPr id="299" name=""/>
              <p:cNvSpPr/>
              <p:nvPr/>
            </p:nvSpPr>
            <p:spPr>
              <a:xfrm>
                <a:off x="249876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6733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5084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025800" y="3310920"/>
                <a:ext cx="16488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0220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498760" y="3669480"/>
              <a:ext cx="867960" cy="168120"/>
              <a:chOff x="2498760" y="3669480"/>
              <a:chExt cx="867960" cy="168120"/>
            </a:xfrm>
          </p:grpSpPr>
          <p:sp>
            <p:nvSpPr>
              <p:cNvPr id="305" name=""/>
              <p:cNvSpPr/>
              <p:nvPr/>
            </p:nvSpPr>
            <p:spPr>
              <a:xfrm>
                <a:off x="249876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6733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5084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25800" y="3669480"/>
                <a:ext cx="16488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0220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498760" y="3490200"/>
              <a:ext cx="867960" cy="167040"/>
              <a:chOff x="2498760" y="3490200"/>
              <a:chExt cx="867960" cy="167040"/>
            </a:xfrm>
          </p:grpSpPr>
          <p:sp>
            <p:nvSpPr>
              <p:cNvPr id="311" name=""/>
              <p:cNvSpPr/>
              <p:nvPr/>
            </p:nvSpPr>
            <p:spPr>
              <a:xfrm>
                <a:off x="249876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733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5084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25800" y="3490200"/>
                <a:ext cx="16488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0220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1619280" y="3490200"/>
              <a:ext cx="867960" cy="167040"/>
              <a:chOff x="1619280" y="3490200"/>
              <a:chExt cx="867960" cy="167040"/>
            </a:xfrm>
          </p:grpSpPr>
          <p:sp>
            <p:nvSpPr>
              <p:cNvPr id="317" name=""/>
              <p:cNvSpPr/>
              <p:nvPr/>
            </p:nvSpPr>
            <p:spPr>
              <a:xfrm>
                <a:off x="161928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949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72440" y="3490200"/>
                <a:ext cx="1616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4524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2272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619280" y="3669480"/>
              <a:ext cx="867960" cy="168120"/>
              <a:chOff x="1619280" y="3669480"/>
              <a:chExt cx="867960" cy="168120"/>
            </a:xfrm>
          </p:grpSpPr>
          <p:sp>
            <p:nvSpPr>
              <p:cNvPr id="323" name=""/>
              <p:cNvSpPr/>
              <p:nvPr/>
            </p:nvSpPr>
            <p:spPr>
              <a:xfrm>
                <a:off x="161928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949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72440" y="3669480"/>
                <a:ext cx="1616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14524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32272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621240" y="2360880"/>
              <a:ext cx="171360" cy="173160"/>
            </a:xfrm>
            <a:prstGeom prst="rect">
              <a:avLst/>
            </a:prstGeom>
            <a:solidFill>
              <a:srgbClr val="221304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21240" y="2670120"/>
              <a:ext cx="171360" cy="1746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21240" y="2982600"/>
              <a:ext cx="171360" cy="172800"/>
            </a:xfrm>
            <a:prstGeom prst="rect">
              <a:avLst/>
            </a:prstGeom>
            <a:solidFill>
              <a:srgbClr val="3694b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21240" y="3352680"/>
              <a:ext cx="171360" cy="174600"/>
            </a:xfrm>
            <a:prstGeom prst="rect">
              <a:avLst/>
            </a:prstGeom>
            <a:solidFill>
              <a:srgbClr val="ff33ff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21240" y="3663360"/>
              <a:ext cx="171360" cy="174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44800" y="1989000"/>
              <a:ext cx="48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85040" y="2272680"/>
              <a:ext cx="88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jabło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84680" y="258624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grus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84680" y="2919600"/>
              <a:ext cx="62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śli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85040" y="32659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wi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86120" y="3576960"/>
              <a:ext cx="97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czere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9" name=""/>
          <p:cNvGraphicFramePr/>
          <p:nvPr/>
        </p:nvGraphicFramePr>
        <p:xfrm>
          <a:off x="5168880" y="2057400"/>
          <a:ext cx="2844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2057400"/>
                    <a:ext cx="2844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411280" y="4005360"/>
          <a:ext cx="4969080" cy="23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005360"/>
                    <a:ext cx="496908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0AE-E508-435E-B7D8-CEBC440D480C}" type="slidenum">
              <a:t>20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835280" y="2924280"/>
          <a:ext cx="6019560" cy="31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924280"/>
                    <a:ext cx="6019560" cy="3147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729612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Times New Roman"/>
              </a:rPr>
              <a:t>a) jaki smak lodów cieszył się największym powodzeniem? </a:t>
            </a:r>
            <a:br>
              <a:rPr sz="2000"/>
            </a:br>
            <a:r>
              <a:rPr b="1" i="1" lang="pl-PL" sz="2000" spc="-1" strike="noStrike">
                <a:solidFill>
                  <a:srgbClr val="ff9900"/>
                </a:solidFill>
                <a:latin typeface="Times New Roman"/>
              </a:rPr>
              <a:t>b) ile litrów lodów każdego rodzaju sprzedano? </a:t>
            </a:r>
            <a:br>
              <a:rPr sz="2000"/>
            </a:br>
            <a:r>
              <a:rPr b="1" i="1" lang="pl-PL" sz="2000" spc="-1" strike="noStrike">
                <a:solidFill>
                  <a:srgbClr val="008080"/>
                </a:solidFill>
                <a:latin typeface="Times New Roman"/>
              </a:rPr>
              <a:t>c) o ile więcej litrów sprzedano lodów waniliowych niż wiśniowych?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476280"/>
            <a:ext cx="7129800" cy="167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W budce z lodami sprzedano 120 litrów lod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Na podstawie wykresu odpowiedz na pytania: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6FF-536A-43CB-8FA0-59C324B33478}" type="slidenum">
              <a:t>21</a:t>
            </a:fld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Times New Roman"/>
              </a:rPr>
              <a:t>czekolado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99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9900"/>
                </a:solidFill>
                <a:latin typeface="Times New Roman"/>
              </a:rPr>
              <a:t>18 l;  30 l; 24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8080"/>
                </a:solidFill>
                <a:latin typeface="Times New Roman"/>
              </a:rPr>
              <a:t>o 6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08160" y="765000"/>
            <a:ext cx="4286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A15-D5FD-4C1D-974F-AD97C0C604F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600200" y="692280"/>
            <a:ext cx="700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łóżmy, że rok kalendarzowy ma 360 dni. Diagram przedstawia podział roku kalendarz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               </a:t>
            </a:r>
            <a:r>
              <a:rPr b="1" lang="pl-PL" sz="2400" spc="-1" strike="noStrike">
                <a:solidFill>
                  <a:srgbClr val="a1bd69"/>
                </a:solidFill>
                <a:latin typeface="Times New Roman"/>
              </a:rPr>
              <a:t>Odpowiedz na pytania: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Monotype Corsiva"/>
              </a:rPr>
              <a:t>a) ile dni trwają zajęcia lekcyjne, a ile wakacje?</a:t>
            </a:r>
            <a:br>
              <a:rPr sz="2400"/>
            </a:br>
            <a:r>
              <a:rPr b="1" lang="pl-PL" sz="2400" spc="-1" strike="noStrike">
                <a:solidFill>
                  <a:srgbClr val="800000"/>
                </a:solidFill>
                <a:latin typeface="Monotype Corsiva"/>
              </a:rPr>
              <a:t>b) </a:t>
            </a:r>
            <a:r>
              <a:rPr b="1" lang="pl-PL" sz="2400" spc="-1" strike="noStrike">
                <a:solidFill>
                  <a:srgbClr val="660066"/>
                </a:solidFill>
                <a:latin typeface="Monotype Corsiva"/>
              </a:rPr>
              <a:t>przez ile dni przebywasz poza szkołą?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Monotype Corsiva"/>
              </a:rPr>
              <a:t>c) jakim procentem zajęć lekcyjnych są wakac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331280" y="3357720"/>
            <a:ext cx="6525360" cy="2806560"/>
            <a:chOff x="1331280" y="3357720"/>
            <a:chExt cx="6525360" cy="2806560"/>
          </a:xfrm>
        </p:grpSpPr>
        <p:sp>
          <p:nvSpPr>
            <p:cNvPr id="353" name=""/>
            <p:cNvSpPr/>
            <p:nvPr/>
          </p:nvSpPr>
          <p:spPr>
            <a:xfrm>
              <a:off x="1331280" y="3357720"/>
              <a:ext cx="24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5632560" y="3757680"/>
              <a:ext cx="2224080" cy="397440"/>
              <a:chOff x="5632560" y="3757680"/>
              <a:chExt cx="2224080" cy="397440"/>
            </a:xfrm>
          </p:grpSpPr>
          <p:sp>
            <p:nvSpPr>
              <p:cNvPr id="355" name=""/>
              <p:cNvSpPr/>
              <p:nvPr/>
            </p:nvSpPr>
            <p:spPr>
              <a:xfrm>
                <a:off x="5995080" y="375768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Zajęcia szkol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32560" y="3834000"/>
                <a:ext cx="220320" cy="221760"/>
              </a:xfrm>
              <a:prstGeom prst="rect">
                <a:avLst/>
              </a:prstGeom>
              <a:gradFill rotWithShape="0">
                <a:gsLst>
                  <a:gs pos="0">
                    <a:srgbClr val="221304"/>
                  </a:gs>
                  <a:gs pos="100000">
                    <a:srgbClr val="00ff66"/>
                  </a:gs>
                </a:gsLst>
                <a:lin ang="13500000"/>
              </a:gra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703600" y="3827520"/>
              <a:ext cx="4743720" cy="2336760"/>
              <a:chOff x="2703600" y="3827520"/>
              <a:chExt cx="4743720" cy="233676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2703600" y="3827520"/>
                <a:ext cx="2320920" cy="2336760"/>
                <a:chOff x="2703600" y="3827520"/>
                <a:chExt cx="2320920" cy="2336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340380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93688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17016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87036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33728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57056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80384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63708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70360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103640" y="3827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40380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93688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17016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7036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33728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57056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80384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63708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70360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103640" y="40622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40380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93688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17016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87036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33728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57056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80384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63708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70360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103640" y="42973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40380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93688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17016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87036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33728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57056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80384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63708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70360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103640" y="45324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40380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93688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17016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87036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33728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57056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80384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63708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360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103640" y="47674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40380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93688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17016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87036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33728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57056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80384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63708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70360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103640" y="54723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40380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93688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17016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36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33728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57056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0384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63708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70360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103640" y="52372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40380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93688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17016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33728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57056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80384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63708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70360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103640" y="50022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40380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3688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7016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87036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33728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7056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80384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63708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70360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103640" y="5942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40380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93688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17016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036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33728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57056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80384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63708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70360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103640" y="57074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5632560" y="4305600"/>
                <a:ext cx="1814760" cy="397440"/>
                <a:chOff x="5632560" y="4305600"/>
                <a:chExt cx="1814760" cy="3974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5632560" y="4382280"/>
                  <a:ext cx="21996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994360" y="4305600"/>
                  <a:ext cx="1452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Poza szkoł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5632560" y="4775760"/>
                <a:ext cx="1433880" cy="397440"/>
                <a:chOff x="5632560" y="4775760"/>
                <a:chExt cx="1433880" cy="3974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5632560" y="4852440"/>
                  <a:ext cx="22032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918400" y="4775760"/>
                  <a:ext cx="1148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akac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8FD-41D3-4E98-96A6-F9D5A84F5780}" type="slidenum">
              <a:t>23</a:t>
            </a:fld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6320" y="2682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 CE"/>
              </a:rPr>
              <a:t>b)  108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1840" y="35002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 CE"/>
              </a:rPr>
              <a:t>c) 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44920" y="189072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Times New Roman CE"/>
              </a:rPr>
              <a:t>a)  180 dni; 72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116000" y="34354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7E6-AACD-490C-AA98-DD547C9F09A8}" type="slidenum">
              <a:t>2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czniowie klas pierwszych pew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gimnazjum przedstawili swoje preferen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zorów na ubraniach w postaci diagram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edstawionego poniż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932360" y="3284640"/>
            <a:ext cx="3960720" cy="23763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042920" y="4869000"/>
            <a:ext cx="4627800" cy="164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 podstawie diagramu określ, które zdanie jest fałszyw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336-6337-4FE6-A510-DE1D39B29D1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762012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0% uczniów lubi inne desenie niż kratki, kropki i pas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mniej niż połowy uczniów są krop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cej niż połowa uczniów lubi ubrania we wzor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więcej niż połowy uczniów są kratki lub pas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4897440" cy="306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665-5BFF-4538-9595-5CBFBF82848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cc66"/>
                </a:solidFill>
                <a:latin typeface="Times New Roman"/>
              </a:rPr>
              <a:t>Diagram procentowy przedstawia wyniki wyborów prezesa klubu sportowego, który liczy 800 członków.</a:t>
            </a:r>
            <a:br>
              <a:rPr sz="2400"/>
            </a:br>
            <a:br>
              <a:rPr sz="2400"/>
            </a:br>
            <a:r>
              <a:rPr b="1" i="1" lang="pl-PL" sz="2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i="1" lang="pl-PL" sz="2400" spc="-1" strike="noStrike">
                <a:solidFill>
                  <a:srgbClr val="ff3300"/>
                </a:solidFill>
                <a:latin typeface="Monotype Corsiva"/>
              </a:rPr>
              <a:t>) Ilu członków klubu nie wzięło udziału w głosowaniu?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b) O ilu wyborców więcej głosowało na pana Piotra niż na 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pana Karola?</a:t>
            </a:r>
            <a:br>
              <a:rPr sz="2400"/>
            </a:br>
            <a:r>
              <a:rPr b="1" i="1" lang="pl-PL" sz="2400" spc="-1" strike="noStrike">
                <a:solidFill>
                  <a:srgbClr val="cccc00"/>
                </a:solidFill>
                <a:latin typeface="Monotype Corsiva"/>
              </a:rPr>
              <a:t>c) Czy L. Pan Karol wygrałby wybory gdyby przekonał do siebie połowę nie biorących udziału w głosowaniu?</a:t>
            </a:r>
            <a:br>
              <a:rPr sz="24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908000" y="3213000"/>
          <a:ext cx="617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617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DB1-BF29-4FF6-8B2E-4D46624BBDA7}" type="slidenum">
              <a:t>27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0080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14200" y="2349360"/>
            <a:ext cx="2858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a) 16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4200" y="3573360"/>
            <a:ext cx="30290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b) o 8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04360" y="4581360"/>
            <a:ext cx="1469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c) 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12000" y="692280"/>
            <a:ext cx="2884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21156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C20-DA13-421E-B1F7-C242E48E27B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3673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ane te przedstaw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iagramie procentowym. Dołącz dane o Twojej szk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yjmij, że dotyczą one lat zwykłych (365 dn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Procenty flagi dni.gif"/>
          <p:cNvPicPr/>
          <p:nvPr/>
        </p:nvPicPr>
        <p:blipFill>
          <a:blip r:embed="rId1"/>
          <a:stretch/>
        </p:blipFill>
        <p:spPr>
          <a:xfrm>
            <a:off x="4643280" y="1989000"/>
            <a:ext cx="4246560" cy="38941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187280" y="404640"/>
            <a:ext cx="741708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rzystając z  ilustracji odczytaj ile godzin i 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ni spędzają uczniowie w szk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90D-0A59-4376-B099-4952CA7FB8C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1773000"/>
            <a:ext cx="4572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Wśród ułamków duże znaczenie, zwłaszcza w życiu codziennym, mają ułamki dziesiętne o mianowniku 100. Ułamki te nazywają się procentam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rocent oznaczamy symbolem</a:t>
            </a:r>
            <a:br>
              <a:rPr sz="2800"/>
            </a:br>
            <a:r>
              <a:rPr b="1" i="1" lang="pl-PL" sz="3600" spc="-1" strike="noStrike">
                <a:solidFill>
                  <a:srgbClr val="0000cc"/>
                </a:solidFill>
                <a:latin typeface="Monotype Corsiva"/>
              </a:rPr>
              <a:t>%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89964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170028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249228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357336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4724280"/>
            <a:ext cx="159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% 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C7E-D3AF-4818-85FA-14445E3CA4F6}" type="slidenum">
              <a:t>3</a:t>
            </a:fld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3024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Marysia, która bardzo lub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owoce i sery, z pirami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ybrała sobie taki zesta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dzienn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6 porcji - chleb, ryż, mak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jarzy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4 porcje - owo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mleko, jogurt, 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2 porcje - mięso, jajka, drób, ryb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 sumie mamy 6+3+4+3+2 =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porcji. Sześć porcji przypada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chleb, ryż i makaron. Ile to procent 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≈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0,33 = 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Procenty piramida.gif"/>
          <p:cNvPicPr/>
          <p:nvPr/>
        </p:nvPicPr>
        <p:blipFill>
          <a:blip r:embed="rId1"/>
          <a:stretch/>
        </p:blipFill>
        <p:spPr>
          <a:xfrm>
            <a:off x="3708360" y="1773360"/>
            <a:ext cx="4896000" cy="43765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\frac{6}{18} "/>
          <p:cNvPicPr/>
          <p:nvPr/>
        </p:nvPicPr>
        <p:blipFill>
          <a:blip r:embed="rId2"/>
          <a:stretch/>
        </p:blipFill>
        <p:spPr>
          <a:xfrm>
            <a:off x="1763640" y="5589720"/>
            <a:ext cx="314280" cy="6476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1476360" y="476280"/>
            <a:ext cx="65516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dstawmy dane z piramidy zdrowego odżywiania w postaci pro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A06-7957-437E-9663-F04218CE4DF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41749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2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kończ procentowy diagr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zedstawiający zdr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, wybrany przez Mary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Wybierz dla Ciebie najleps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 jedzenia, który będ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godny z piramidą zdr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odżywiania. Przedstaw go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ocentowym diagramie.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Procenty def piramida.svg"/>
          <p:cNvPicPr/>
          <p:nvPr/>
        </p:nvPicPr>
        <p:blipFill>
          <a:blip r:embed="rId1"/>
          <a:stretch/>
        </p:blipFill>
        <p:spPr>
          <a:xfrm>
            <a:off x="4859280" y="1413000"/>
            <a:ext cx="3889440" cy="41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90E-2642-4AA9-9936-3AA043CC3D3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Obliczanie procentu danej liczby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zamieniamy </a:t>
            </a:r>
            <a:r>
              <a:rPr b="1" i="1" lang="pl-PL" sz="3200" spc="-1" strike="noStrike">
                <a:solidFill>
                  <a:srgbClr val="ff0000"/>
                </a:solidFill>
                <a:latin typeface="Times New Roman"/>
              </a:rPr>
              <a:t>procent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 na ułam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ułamek mnożymy przez liczb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procenty"/>
          <p:cNvPicPr/>
          <p:nvPr/>
        </p:nvPicPr>
        <p:blipFill>
          <a:blip r:embed="rId1"/>
          <a:stretch/>
        </p:blipFill>
        <p:spPr>
          <a:xfrm>
            <a:off x="1476360" y="299736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procent"/>
          <p:cNvPicPr/>
          <p:nvPr/>
        </p:nvPicPr>
        <p:blipFill>
          <a:blip r:embed="rId2"/>
          <a:stretch/>
        </p:blipFill>
        <p:spPr>
          <a:xfrm>
            <a:off x="1476360" y="4508640"/>
            <a:ext cx="2592360" cy="12506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4716360" y="3284640"/>
            <a:ext cx="3743280" cy="21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4D3-2497-4AAF-840E-D12FA459FB1A}" type="slidenum">
              <a:t>32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4356000" y="907920"/>
            <a:ext cx="4127760" cy="2376720"/>
          </a:xfrm>
          <a:prstGeom prst="wedgeRoundRectCallout">
            <a:avLst>
              <a:gd name="adj1" fmla="val -86078"/>
              <a:gd name="adj2" fmla="val 90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procent danej liczby, należy tę liczbę pomnożyć przez ten pro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92360" y="3860640"/>
            <a:ext cx="4572000" cy="159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3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 15% liczb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88560" y="5084640"/>
            <a:ext cx="7357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15% · 2000= 0,15 · 2000 =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0A0-AF48-4028-A88F-5EF041894A5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692280"/>
            <a:ext cx="4572000" cy="411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Oblicz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) 15% liczby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b) 7% liczby 12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2314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DB3-4E0A-474E-B0DC-FEE1EE48A651}" type="slidenum">
              <a:t>34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rzykładowe zadania 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30 uczniów, dziewczęta stanowią 40% całej klasy, ilu jest chłopc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40%  </a:t>
            </a:r>
            <a:r>
              <a:rPr b="1" i="1" lang="pl-PL" sz="2400" spc="-1" strike="noStrike" baseline="30000">
                <a:solidFill>
                  <a:srgbClr val="000000"/>
                </a:solidFill>
                <a:latin typeface="Monotype Corsiva"/>
              </a:rPr>
              <a:t>.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30 = 12   - ilość dziewczą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30-12=1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18 chłopc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71640" y="4653000"/>
            <a:ext cx="556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367200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595-E2B5-4115-BC8F-D3BE25526767}" type="slidenum">
              <a:t>35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rzykładowe zadania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Zad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Monotype Corsiva"/>
              </a:rPr>
              <a:t>W chórze 8 osób śpiewało basem, a o 25% więcej osób śpiewało al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Monotype Corsiva"/>
              </a:rPr>
              <a:t>Ile osób śpiewało al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Rozwiązanie</a:t>
            </a:r>
            <a:r>
              <a:rPr b="0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2210040" cy="171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143000" y="4191120"/>
                <a:ext cx="14479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3429000" y="4191120"/>
                <a:ext cx="20574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1143000" y="5334120"/>
            <a:ext cx="388620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	</a:t>
            </a: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Altem śpiewało 10 osó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8F9-F644-4174-9B8F-7655CE7E48E8}" type="slidenum">
              <a:t>36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Obliczanie liczby gdy dany jest jej procent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Łatwo jest obliczyć liczbę, gdy znamy jej 50%, 25% czy 10%. Cała liczba to przecież 100%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Jeśli 50% procent liczby wynosi 6, to cała liczba jest dwa razy większa, czyli 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Jeśli 25% liczby to 7, wówczas szukaną liczbę obliczamy wykonując mnożenie 7 · 4 = 2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Liczba, której 10% wynosi 3, wówczas szukana liczba jest dziesięć razy większa, czyli 30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5364000" y="4653000"/>
            <a:ext cx="2737080" cy="22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20B-2B0D-4483-B87D-73665FFF74E2}" type="slidenum">
              <a:t>37</a:t>
            </a:fld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Aby obliczyć liczbę, gdy dany jest jej proc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35280" y="3789360"/>
            <a:ext cx="59576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 liczbę, której 2% jest równ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6985080" cy="1224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995480" cy="25909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4427640" y="1557360"/>
            <a:ext cx="4093920" cy="2087640"/>
          </a:xfrm>
          <a:prstGeom prst="wedgeRoundRectCallout">
            <a:avLst>
              <a:gd name="adj1" fmla="val -91333"/>
              <a:gd name="adj2" fmla="val -741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Wystarczy podzielić 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przez podany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461-031F-457F-8457-313CF6E2E8B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58920" y="1052640"/>
            <a:ext cx="7242120" cy="13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Oblicz liczbę której 5% wynosi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86240" y="3141720"/>
            <a:ext cx="609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30 : 5% = 30 : 0,05 = 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352872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143-FFDB-48C4-A81E-3B98B5781C1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439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odany </a:t>
            </a:r>
            <a:r>
              <a:rPr b="1" lang="pl-PL" sz="2800" spc="-1" strike="noStrike">
                <a:solidFill>
                  <a:srgbClr val="0000cc"/>
                </a:solidFill>
                <a:latin typeface="Monotype Corsiva"/>
              </a:rPr>
              <a:t>prostokąt podzielono na 100 małych prostokątów – każdy taki prostokącik oznacza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148360" y="3284640"/>
          <a:ext cx="2514600" cy="2131920"/>
        </p:xfrm>
        <a:graphic>
          <a:graphicData uri="http://schemas.openxmlformats.org/drawingml/2006/table">
            <a:tbl>
              <a:tblPr/>
              <a:tblGrid>
                <a:gridCol w="250920"/>
                <a:gridCol w="252360"/>
                <a:gridCol w="250920"/>
                <a:gridCol w="252360"/>
                <a:gridCol w="250920"/>
                <a:gridCol w="250920"/>
                <a:gridCol w="252360"/>
                <a:gridCol w="250560"/>
                <a:gridCol w="252720"/>
                <a:gridCol w="2505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bf0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11280" y="4149720"/>
                <a:ext cx="1828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FDA-9E66-4E70-B951-6DA0DB5BE83C}" type="slidenum">
              <a:t>4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% jest równ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5% jest równe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0 % jest równe 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58960" y="1628640"/>
            <a:ext cx="5391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najdź liczby, który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81952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FF3-B652-4D4A-AAA5-CBDAE653313B}" type="slidenum">
              <a:t>40</a:t>
            </a:fld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rzykładowe zadania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Zada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sekcji sportowej 18 mężczyzn ćwiczyło  codziennie gimnastykę artystyczną. Stanowili oni 90% tej sekcji. Ile osób liczyła sekcja sportow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Rozwiąza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18 : 90%=18 : 0,9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5562720" y="3048120"/>
            <a:ext cx="2431800" cy="2649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16000" y="4869000"/>
            <a:ext cx="525780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Do sekcji sportowej należało 20 osó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AD2-57FC-476E-82EF-24B09585544B}" type="slidenum">
              <a:t>41</a:t>
            </a:fld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Jakim procentem I liczby jest liczba II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                 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Aby obliczyć jakim ułamkiem I liczby jest liczba II należ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                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Aby obliczyć jakim procentem liczby I jest liczba II należ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038480" y="3657600"/>
            <a:ext cx="11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I licz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86400" y="3733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cc"/>
                </a:solidFill>
                <a:latin typeface="Monotype Corsiva"/>
              </a:rPr>
              <a:t>10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266400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731-0066-4186-B63C-3F2B9B2F555F}" type="slidenum">
              <a:t>42</a:t>
            </a:fld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414036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jakim procen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jednej liczby jest druga licz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należy drugą liczbę podzielić przez pierwszą i otrzymany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iloraz wyrazić w procentach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47280" y="3716280"/>
            <a:ext cx="60498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5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 Jakim procentem liczby 45 jest liczba 9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1476360" y="4941720"/>
                <a:ext cx="6624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6C8-BA08-464B-AE02-640EAC657827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Na parkingu stoi 12 samochodów, 3 cz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i 9 białych. Podaj ile </a:t>
            </a:r>
            <a:r>
              <a:rPr b="1" i="1" lang="pl-PL" sz="3200" spc="-1" strike="noStrike">
                <a:solidFill>
                  <a:srgbClr val="0033cc"/>
                </a:solidFill>
                <a:latin typeface="Monotype Corsiva"/>
              </a:rPr>
              <a:t>procent</a:t>
            </a: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 wszyst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samochodów stanowią samochody cz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79280" y="620640"/>
            <a:ext cx="19836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procentow"/>
          <p:cNvPicPr/>
          <p:nvPr/>
        </p:nvPicPr>
        <p:blipFill>
          <a:blip r:embed="rId1"/>
          <a:stretch/>
        </p:blipFill>
        <p:spPr>
          <a:xfrm>
            <a:off x="1835280" y="3860640"/>
            <a:ext cx="4824360" cy="16081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84E-00C2-4E23-9C19-A1E9FD436D7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8900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otrzymał po roku oszczędz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200 zł odsetek od 5000 zł, jakie włożył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roczną lokatę. Jak była oprocento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lokata?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7080" y="620640"/>
            <a:ext cx="21405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00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42480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06B-D828-4215-A2C7-DE65C946B94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9640" y="2349360"/>
            <a:ext cx="774396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Lokata była oprocentowana 4% w skali ro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116000" y="692280"/>
                <a:ext cx="6840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916360" y="429264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EAA-58DC-4AEF-BEC5-0EDEE220A59C}" type="slidenum">
              <a:t>46</a:t>
            </a:fld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67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Filip na 70 rzutów do kosza trafia tyl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14 razy. Jaką procentową skute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miał Filip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87640" y="692280"/>
            <a:ext cx="2943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6264360" cy="24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CC9-B470-4B27-AFBC-B6A695CD05F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32000" y="2060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Filip miał 20 % skutecznoś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476360" y="692280"/>
                <a:ext cx="676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3132000" y="3789360"/>
            <a:ext cx="2708280" cy="27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397-F1E0-445B-860A-6CAFEDB10B7F}" type="slidenum">
              <a:t>48</a:t>
            </a:fld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e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Podstawowym składnikiem ciała ludzki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jest woda. Ciało człowieka o masie 52k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zawiera około 33,8 kg wody. Jaki proc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99"/>
                </a:solidFill>
                <a:latin typeface="Monotype Corsiva"/>
              </a:rPr>
              <a:t>masy ciała ludzkiego stanowi woda ?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3C7-A167-44F3-A2BD-02DAAB7C3C4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556000" y="1197000"/>
          <a:ext cx="5410080" cy="5175360"/>
        </p:xfrm>
        <a:graphic>
          <a:graphicData uri="http://schemas.openxmlformats.org/drawingml/2006/table">
            <a:tbl>
              <a:tblPr/>
              <a:tblGrid>
                <a:gridCol w="541440"/>
                <a:gridCol w="541080"/>
                <a:gridCol w="540000"/>
                <a:gridCol w="541080"/>
                <a:gridCol w="541440"/>
                <a:gridCol w="541440"/>
                <a:gridCol w="541440"/>
                <a:gridCol w="539640"/>
                <a:gridCol w="496800"/>
                <a:gridCol w="5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 flipH="1" flipV="1">
            <a:off x="1619280" y="105264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692360" y="2707920"/>
            <a:ext cx="107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195640" y="5013000"/>
            <a:ext cx="1224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093080" y="2997360"/>
            <a:ext cx="10778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500360" y="907560"/>
            <a:ext cx="43164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1268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278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2781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278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efde3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765000"/>
            <a:ext cx="792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40464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2492280"/>
            <a:ext cx="7923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4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2708280"/>
            <a:ext cx="685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472428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F3E-092C-46D5-BBBE-AE496EBAC75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40000" y="1700280"/>
            <a:ext cx="5545080" cy="2043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Woda stanowi  65 % masy ciała ludzkie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344680" y="549360"/>
                <a:ext cx="47419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,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8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5724360" y="4221000"/>
            <a:ext cx="2735280" cy="206712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2303280" cy="30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81C-ECF0-47EB-BBA7-419A957B2893}" type="slidenum">
              <a:t>50</a:t>
            </a:fld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ykorzystanie kalkulatora do obliczeń procentowych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Zapoznaj się ze sposobami wykonyw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obliczeń procentowych przy pomo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kalkulatora, a następnie samodziel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wykonaj obli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4356000" y="3357720"/>
            <a:ext cx="3975120" cy="298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22C-848A-41BB-B751-5E45A12CB7F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 20% z liczby 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) Liczbę 80 powiększ o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2665440" cy="4860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2737080" cy="5000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5076720" y="3573360"/>
            <a:ext cx="3672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Liczba wprowad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Końcowy wynik wyświetl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312480" cy="2588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12480" cy="2444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312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6C0-7A1C-434E-B13F-E247184F99F9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) Liczbę 80 zmniejsz 0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) Jakim procentem liczby 80 jest liczba 2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84360" y="3645000"/>
            <a:ext cx="6264360" cy="2014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            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Liczba wprowadzona 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Końcowy wynik wyświetlony 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312840" cy="2444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3635280" y="5300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4"/>
          <a:stretch/>
        </p:blipFill>
        <p:spPr>
          <a:xfrm>
            <a:off x="1116000" y="2421000"/>
            <a:ext cx="3097080" cy="5652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5"/>
          <a:stretch/>
        </p:blipFill>
        <p:spPr>
          <a:xfrm>
            <a:off x="1187280" y="3645000"/>
            <a:ext cx="302436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00E-7A3B-4F8A-96D0-5BAE05B5B4D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36800" y="1989000"/>
            <a:ext cx="48848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15% z liczby 25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24080" y="2997360"/>
            <a:ext cx="5726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0,6% z liczby 30.00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10640" y="4149720"/>
            <a:ext cx="6704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60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45C-80C5-4BB0-9B33-982C46ADE22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89920" y="1916280"/>
            <a:ext cx="726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16,8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35000" y="2997360"/>
            <a:ext cx="6718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mniejsz o 20% liczbę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4360" y="4149720"/>
            <a:ext cx="78372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jakim procentem liczby 15 jest liczba 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A500-5DD0-4414-97DF-99D9C786DD8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łaszcz kosztował 280zł. Ile kosztuje ten płaszcz po 30% obniż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siążka, która kosztowała 36 zł, podrożała o 15%. Ile kosztuje teraz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wer kosztował 540 zł. Po obniżce kosztuje 459zł. O ile procent obniżono cen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16360" y="692280"/>
            <a:ext cx="2592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421-48D4-4A2E-81C7-89DFA1892FF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łaszcz kosztuje 196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siążka kosztuje 41,4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nę roweru obniżono o 1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692360" y="3500280"/>
            <a:ext cx="1709640" cy="25783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2664000" cy="16477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3"/>
          <a:stretch/>
        </p:blipFill>
        <p:spPr>
          <a:xfrm>
            <a:off x="5435640" y="1197000"/>
            <a:ext cx="2160720" cy="16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FF7-C9F2-4F30-93A5-FF5FABAEB79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Punkt procentow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Pojęcia punkt procentowy używamy, gdy zmienia się jakaś wielkość określona w procentach. Na przykład, jeśli  oprocentowanie w banku wynosiło 18 % i zmniejszyło się do 16%, to mówimy, że zmalało o 2 punkty procent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2819520" y="3276720"/>
            <a:ext cx="4273560" cy="313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5A6-71C5-41EC-B8E3-497E2566B892}" type="slidenum">
              <a:t>58</a:t>
            </a:fld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16360" y="2276640"/>
            <a:ext cx="28080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009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028680" cy="30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C5D-2367-4BD1-831C-E242600B02E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Procenty definicja.svg"/>
          <p:cNvPicPr/>
          <p:nvPr/>
        </p:nvPicPr>
        <p:blipFill>
          <a:blip r:embed="rId1"/>
          <a:stretch/>
        </p:blipFill>
        <p:spPr>
          <a:xfrm>
            <a:off x="1187280" y="1700280"/>
            <a:ext cx="7417080" cy="4562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33920" y="691200"/>
            <a:ext cx="7553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Na obrazku widzisz 100 kredek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7BF-AED5-42A1-AD35-E14DF35F951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mówimy, że 23% Polaków ma niebieskie oczy, to znaczy, że przeciętnie na 100 Polaków jest 23 takich, którzy mają niebieskie ocz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na też powiedzieć, ż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zystkich Polaków ma niebieskie ocz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549000" cy="7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12A-7A19-4F78-AB4C-F6635F9CA46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cc"/>
                </a:solidFill>
                <a:latin typeface="Times New Roman"/>
              </a:rPr>
              <a:t>Zadanie 1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Ile procent figury zamalowano?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6" name="" descr="Procenty def zad1.svg"/>
          <p:cNvPicPr/>
          <p:nvPr/>
        </p:nvPicPr>
        <p:blipFill>
          <a:blip r:embed="rId1"/>
          <a:stretch/>
        </p:blipFill>
        <p:spPr>
          <a:xfrm>
            <a:off x="1042920" y="1916280"/>
            <a:ext cx="7272360" cy="28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71A-7EC0-4DD9-837D-98474925B34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Skracanie ułamków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Ułamki, które mają w mianowniku 100, możemy skracać do najprostszej posta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595520" cy="2497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2895480"/>
            <a:ext cx="3143160" cy="1973520"/>
          </a:xfrm>
          <a:prstGeom prst="wedgeRoundRectCallout">
            <a:avLst>
              <a:gd name="adj1" fmla="val 67777"/>
              <a:gd name="adj2" fmla="val -36083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Zauważyłam, ż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25% to ćwiar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50% to połow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75% to trzy ćwiartki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100% to cał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505320"/>
            <a:ext cx="182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0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743200" y="4800600"/>
          <a:ext cx="266688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4800600"/>
                    <a:ext cx="26668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429000" y="5562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86400" y="4800600"/>
          <a:ext cx="2286000" cy="171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86400" y="4800600"/>
                    <a:ext cx="228600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019920" y="5791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5257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981080" y="3505320"/>
                <a:ext cx="114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905120" y="426708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05120" y="3295800"/>
                <a:ext cx="99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905120" y="5181480"/>
                <a:ext cx="838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FD5-3E99-4C64-A95A-CB0AB9135B45}" type="slidenum">
              <a:t>9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9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15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13-03-14T19:03:40Z</dcterms:modified>
  <cp:revision>122</cp:revision>
  <dc:subject/>
  <dc:title>Prezentacja programu PowerPoint</dc:title>
</cp:coreProperties>
</file>